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EC5-1082-4D3C-ACDE-6FB1EBFA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7FF-1303-4743-A1BD-A893D23E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5A1-C23F-4BB0-8384-11C37855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940-A954-4370-BC6A-85B1A9FE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A65-7CE2-4B9E-A84D-35E5D27E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A8A-6CBB-41EC-B1A3-51BD3FFF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7EB-B0AC-4AA7-A094-C2C2C96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262-5103-4D0E-8069-5618AFE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FB5-C64F-4793-BD40-61CB857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E64-5457-4AA1-8535-0210F2A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E2B-78C0-4C13-8238-AC1FD8A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89A-B365-4974-BA49-9A4EA4E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C25-74F8-41D6-BC3E-9C86F3DC9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2903400" y="1849320"/>
            <a:ext cx="67471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Изменения в федеральные законы, обеспечивающие использование информации, содержащейся в Государственной информационной системе о государственных и муниципальных платежах (ГИС ГМП), для подтверждения опла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41560" y="4902120"/>
            <a:ext cx="371016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чальник Отде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азвития платежных серви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Управления развит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ириллов А.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723080" y="6122880"/>
            <a:ext cx="1868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18 августа 2017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Заголовок 1"/>
          <p:cNvSpPr/>
          <p:nvPr/>
        </p:nvSpPr>
        <p:spPr>
          <a:xfrm>
            <a:off x="3554280" y="0"/>
            <a:ext cx="636912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ВНЕСЕНИЕ ИЗМЕНЕНИЙ В 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B7B-CEAA-4E6C-9A3C-41898FC279FB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6324480" y="3562200"/>
            <a:ext cx="3218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6.07.2017 № 190-ФЗ «О внесении изменений в статьи 65 и 67 Федерального закона «Об исполнительном производст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09520" y="1722600"/>
            <a:ext cx="4465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9.07.2017 № 236-ФЗ «О внесении изменений в отдельные законодательные акты Российской Федерации в связи с совершенствованием порядка и сроков направления информации в Государственную информационную систему о государственных и муниципальных платежа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09520" y="5013360"/>
            <a:ext cx="446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9.07.2017 № 278-ФЗ "О внесении изменений в Федеральный закон «О государственном регулировании производства и оборота этилового спирта, алкогольной и спиртосодержащей продукции и об ограничении потребления (распития) алкогольной продукции" и отдельные законодательные акты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55"/>
          <p:cNvGrpSpPr/>
          <p:nvPr/>
        </p:nvGrpSpPr>
        <p:grpSpPr>
          <a:xfrm>
            <a:off x="2801880" y="3012840"/>
            <a:ext cx="3379680" cy="1811160"/>
            <a:chOff x="2801880" y="3012840"/>
            <a:chExt cx="3379680" cy="1811160"/>
          </a:xfrm>
        </p:grpSpPr>
        <p:sp>
          <p:nvSpPr>
            <p:cNvPr id="50" name="Notched Right Arrow 81"/>
            <p:cNvSpPr/>
            <p:nvPr/>
          </p:nvSpPr>
          <p:spPr>
            <a:xfrm rot="16200000">
              <a:off x="4636800" y="3795120"/>
              <a:ext cx="1811160" cy="246240"/>
            </a:xfrm>
            <a:custGeom>
              <a:avLst/>
              <a:gdLst>
                <a:gd name="textAreaLeft" fmla="*/ 275040 w 1811160"/>
                <a:gd name="textAreaRight" fmla="*/ 1536120 w 18111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18" y="0"/>
                  </a:lnTo>
                  <a:lnTo>
                    <a:pt x="18318" y="0"/>
                  </a:lnTo>
                  <a:lnTo>
                    <a:pt x="21600" y="10800"/>
                  </a:lnTo>
                  <a:lnTo>
                    <a:pt x="18318" y="21600"/>
                  </a:lnTo>
                  <a:lnTo>
                    <a:pt x="18318" y="21600"/>
                  </a:lnTo>
                  <a:lnTo>
                    <a:pt x="0" y="21600"/>
                  </a:lnTo>
                  <a:lnTo>
                    <a:pt x="3282" y="108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3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576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Group 82"/>
            <p:cNvGrpSpPr/>
            <p:nvPr/>
          </p:nvGrpSpPr>
          <p:grpSpPr>
            <a:xfrm>
              <a:off x="2801880" y="3632040"/>
              <a:ext cx="3379680" cy="871200"/>
              <a:chOff x="2801880" y="3632040"/>
              <a:chExt cx="3379680" cy="871200"/>
            </a:xfrm>
          </p:grpSpPr>
          <p:sp>
            <p:nvSpPr>
              <p:cNvPr id="52" name="Freeform 83"/>
              <p:cNvSpPr/>
              <p:nvPr/>
            </p:nvSpPr>
            <p:spPr>
              <a:xfrm flipH="1">
                <a:off x="2801880" y="3632040"/>
                <a:ext cx="3379680" cy="714240"/>
              </a:xfrm>
              <a:custGeom>
                <a:avLst/>
                <a:gdLst/>
                <a:ahLst/>
                <a:rect l="l" t="t" r="r" b="b"/>
                <a:pathLst>
                  <a:path w="3855031" h="800099">
                    <a:moveTo>
                      <a:pt x="455897" y="0"/>
                    </a:moveTo>
                    <a:lnTo>
                      <a:pt x="3855031" y="0"/>
                    </a:lnTo>
                    <a:lnTo>
                      <a:pt x="3608347" y="290991"/>
                    </a:lnTo>
                    <a:lnTo>
                      <a:pt x="3855031" y="623454"/>
                    </a:lnTo>
                    <a:lnTo>
                      <a:pt x="1517075" y="623454"/>
                    </a:lnTo>
                    <a:lnTo>
                      <a:pt x="1517075" y="623449"/>
                    </a:lnTo>
                    <a:lnTo>
                      <a:pt x="592284" y="623449"/>
                    </a:lnTo>
                    <a:lnTo>
                      <a:pt x="592284" y="623454"/>
                    </a:lnTo>
                    <a:lnTo>
                      <a:pt x="176649" y="623454"/>
                    </a:lnTo>
                    <a:cubicBezTo>
                      <a:pt x="103480" y="623454"/>
                      <a:pt x="40701" y="667941"/>
                      <a:pt x="13885" y="731342"/>
                    </a:cubicBezTo>
                    <a:lnTo>
                      <a:pt x="3" y="800099"/>
                    </a:lnTo>
                    <a:lnTo>
                      <a:pt x="3" y="800099"/>
                    </a:lnTo>
                    <a:lnTo>
                      <a:pt x="3" y="446808"/>
                    </a:lnTo>
                    <a:lnTo>
                      <a:pt x="4" y="446808"/>
                    </a:lnTo>
                    <a:lnTo>
                      <a:pt x="4" y="176666"/>
                    </a:lnTo>
                    <a:cubicBezTo>
                      <a:pt x="3" y="176660"/>
                      <a:pt x="1" y="176653"/>
                      <a:pt x="0" y="176647"/>
                    </a:cubicBezTo>
                    <a:lnTo>
                      <a:pt x="13882" y="107889"/>
                    </a:lnTo>
                    <a:cubicBezTo>
                      <a:pt x="40698" y="44488"/>
                      <a:pt x="103477" y="1"/>
                      <a:pt x="176646" y="1"/>
                    </a:cubicBezTo>
                    <a:lnTo>
                      <a:pt x="455897" y="1"/>
                    </a:lnTo>
                    <a:lnTo>
                      <a:pt x="455897" y="0"/>
                    </a:lnTo>
                    <a:close/>
                  </a:path>
                </a:pathLst>
              </a:custGeom>
              <a:solidFill>
                <a:srgbClr val="be1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0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84"/>
              <p:cNvSpPr/>
              <p:nvPr/>
            </p:nvSpPr>
            <p:spPr>
              <a:xfrm flipH="1">
                <a:off x="5661720" y="4187520"/>
                <a:ext cx="519480" cy="315720"/>
              </a:xfrm>
              <a:custGeom>
                <a:avLst/>
                <a:gdLst/>
                <a:ahLst/>
                <a:rect l="l" t="t" r="r" b="b"/>
                <a:pathLst>
                  <a:path w="592282" h="353292">
                    <a:moveTo>
                      <a:pt x="0" y="176645"/>
                    </a:moveTo>
                    <a:lnTo>
                      <a:pt x="0" y="176646"/>
                    </a:lnTo>
                    <a:lnTo>
                      <a:pt x="0" y="176646"/>
                    </a:lnTo>
                    <a:lnTo>
                      <a:pt x="0" y="176645"/>
                    </a:lnTo>
                    <a:close/>
                    <a:moveTo>
                      <a:pt x="176646" y="0"/>
                    </a:moveTo>
                    <a:lnTo>
                      <a:pt x="592282" y="0"/>
                    </a:lnTo>
                    <a:lnTo>
                      <a:pt x="592282" y="353292"/>
                    </a:lnTo>
                    <a:lnTo>
                      <a:pt x="176646" y="353291"/>
                    </a:lnTo>
                    <a:cubicBezTo>
                      <a:pt x="103477" y="353291"/>
                      <a:pt x="40698" y="308805"/>
                      <a:pt x="13882" y="245404"/>
                    </a:cubicBezTo>
                    <a:lnTo>
                      <a:pt x="0" y="176646"/>
                    </a:lnTo>
                    <a:lnTo>
                      <a:pt x="13882" y="107888"/>
                    </a:lnTo>
                    <a:cubicBezTo>
                      <a:pt x="40698" y="44487"/>
                      <a:pt x="103477" y="0"/>
                      <a:pt x="176646" y="0"/>
                    </a:cubicBezTo>
                    <a:close/>
                  </a:path>
                </a:pathLst>
              </a:custGeom>
              <a:solidFill>
                <a:srgbClr val="711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" name="Group 58"/>
          <p:cNvGrpSpPr/>
          <p:nvPr/>
        </p:nvGrpSpPr>
        <p:grpSpPr>
          <a:xfrm>
            <a:off x="4867200" y="4859280"/>
            <a:ext cx="3568680" cy="1681200"/>
            <a:chOff x="4867200" y="4859280"/>
            <a:chExt cx="3568680" cy="1681200"/>
          </a:xfrm>
        </p:grpSpPr>
        <p:sp>
          <p:nvSpPr>
            <p:cNvPr id="55" name="Notched Right Arrow 69"/>
            <p:cNvSpPr/>
            <p:nvPr/>
          </p:nvSpPr>
          <p:spPr>
            <a:xfrm rot="16200000">
              <a:off x="4702680" y="5569560"/>
              <a:ext cx="1681200" cy="260640"/>
            </a:xfrm>
            <a:custGeom>
              <a:avLst/>
              <a:gdLst>
                <a:gd name="textAreaLeft" fmla="*/ 255600 w 1681200"/>
                <a:gd name="textAreaRight" fmla="*/ 1425600 w 168120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13" y="0"/>
                  </a:lnTo>
                  <a:lnTo>
                    <a:pt x="18313" y="0"/>
                  </a:lnTo>
                  <a:lnTo>
                    <a:pt x="21600" y="10800"/>
                  </a:lnTo>
                  <a:lnTo>
                    <a:pt x="18313" y="21600"/>
                  </a:lnTo>
                  <a:lnTo>
                    <a:pt x="18313" y="21600"/>
                  </a:lnTo>
                  <a:lnTo>
                    <a:pt x="0" y="21600"/>
                  </a:lnTo>
                  <a:lnTo>
                    <a:pt x="3287" y="108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74320" tIns="46800" bIns="4680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70"/>
            <p:cNvGrpSpPr/>
            <p:nvPr/>
          </p:nvGrpSpPr>
          <p:grpSpPr>
            <a:xfrm>
              <a:off x="4867200" y="5331960"/>
              <a:ext cx="3568680" cy="799920"/>
              <a:chOff x="4867200" y="5331960"/>
              <a:chExt cx="3568680" cy="799920"/>
            </a:xfrm>
          </p:grpSpPr>
          <p:sp>
            <p:nvSpPr>
              <p:cNvPr id="57" name="Freeform 71"/>
              <p:cNvSpPr/>
              <p:nvPr/>
            </p:nvSpPr>
            <p:spPr>
              <a:xfrm>
                <a:off x="4867200" y="5839920"/>
                <a:ext cx="548280" cy="291960"/>
              </a:xfrm>
              <a:custGeom>
                <a:avLst/>
                <a:gdLst/>
                <a:ahLst/>
                <a:rect l="l" t="t" r="r" b="b"/>
                <a:pathLst>
                  <a:path w="592282" h="353292">
                    <a:moveTo>
                      <a:pt x="0" y="176645"/>
                    </a:moveTo>
                    <a:lnTo>
                      <a:pt x="0" y="176646"/>
                    </a:lnTo>
                    <a:lnTo>
                      <a:pt x="0" y="176646"/>
                    </a:lnTo>
                    <a:lnTo>
                      <a:pt x="0" y="176645"/>
                    </a:lnTo>
                    <a:close/>
                    <a:moveTo>
                      <a:pt x="176646" y="0"/>
                    </a:moveTo>
                    <a:lnTo>
                      <a:pt x="592282" y="0"/>
                    </a:lnTo>
                    <a:lnTo>
                      <a:pt x="592282" y="353292"/>
                    </a:lnTo>
                    <a:lnTo>
                      <a:pt x="176646" y="353291"/>
                    </a:lnTo>
                    <a:cubicBezTo>
                      <a:pt x="103477" y="353291"/>
                      <a:pt x="40698" y="308805"/>
                      <a:pt x="13882" y="245404"/>
                    </a:cubicBezTo>
                    <a:lnTo>
                      <a:pt x="0" y="176646"/>
                    </a:lnTo>
                    <a:lnTo>
                      <a:pt x="13882" y="107888"/>
                    </a:lnTo>
                    <a:cubicBezTo>
                      <a:pt x="40698" y="44487"/>
                      <a:pt x="103477" y="0"/>
                      <a:pt x="176646" y="0"/>
                    </a:cubicBezTo>
                    <a:close/>
                  </a:path>
                </a:pathLst>
              </a:custGeom>
              <a:solidFill>
                <a:srgbClr val="b86f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72"/>
              <p:cNvSpPr/>
              <p:nvPr/>
            </p:nvSpPr>
            <p:spPr>
              <a:xfrm>
                <a:off x="4867200" y="5331960"/>
                <a:ext cx="3568680" cy="662040"/>
              </a:xfrm>
              <a:custGeom>
                <a:avLst/>
                <a:gdLst/>
                <a:ahLst/>
                <a:rect l="l" t="t" r="r" b="b"/>
                <a:pathLst>
                  <a:path w="3855031" h="800099">
                    <a:moveTo>
                      <a:pt x="455897" y="0"/>
                    </a:moveTo>
                    <a:lnTo>
                      <a:pt x="3855031" y="0"/>
                    </a:lnTo>
                    <a:lnTo>
                      <a:pt x="3588908" y="332463"/>
                    </a:lnTo>
                    <a:lnTo>
                      <a:pt x="3855031" y="623454"/>
                    </a:lnTo>
                    <a:lnTo>
                      <a:pt x="1517075" y="623454"/>
                    </a:lnTo>
                    <a:lnTo>
                      <a:pt x="1517075" y="623449"/>
                    </a:lnTo>
                    <a:lnTo>
                      <a:pt x="592284" y="623449"/>
                    </a:lnTo>
                    <a:lnTo>
                      <a:pt x="592284" y="623454"/>
                    </a:lnTo>
                    <a:lnTo>
                      <a:pt x="176649" y="623454"/>
                    </a:lnTo>
                    <a:cubicBezTo>
                      <a:pt x="103480" y="623454"/>
                      <a:pt x="40701" y="667941"/>
                      <a:pt x="13885" y="731342"/>
                    </a:cubicBezTo>
                    <a:lnTo>
                      <a:pt x="3" y="800099"/>
                    </a:lnTo>
                    <a:lnTo>
                      <a:pt x="3" y="800099"/>
                    </a:lnTo>
                    <a:lnTo>
                      <a:pt x="3" y="446808"/>
                    </a:lnTo>
                    <a:lnTo>
                      <a:pt x="4" y="446808"/>
                    </a:lnTo>
                    <a:lnTo>
                      <a:pt x="4" y="176666"/>
                    </a:lnTo>
                    <a:cubicBezTo>
                      <a:pt x="3" y="176660"/>
                      <a:pt x="1" y="176653"/>
                      <a:pt x="0" y="176647"/>
                    </a:cubicBezTo>
                    <a:lnTo>
                      <a:pt x="13882" y="107889"/>
                    </a:lnTo>
                    <a:cubicBezTo>
                      <a:pt x="40698" y="44488"/>
                      <a:pt x="103477" y="1"/>
                      <a:pt x="176646" y="1"/>
                    </a:cubicBezTo>
                    <a:lnTo>
                      <a:pt x="455897" y="1"/>
                    </a:lnTo>
                    <a:lnTo>
                      <a:pt x="455897" y="0"/>
                    </a:lnTo>
                    <a:close/>
                  </a:path>
                </a:pathLst>
              </a:custGeom>
              <a:solidFill>
                <a:srgbClr val="fba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" name="Group 55"/>
          <p:cNvGrpSpPr/>
          <p:nvPr/>
        </p:nvGrpSpPr>
        <p:grpSpPr>
          <a:xfrm>
            <a:off x="4853160" y="1331640"/>
            <a:ext cx="3652560" cy="1662120"/>
            <a:chOff x="4853160" y="1331640"/>
            <a:chExt cx="3652560" cy="1662120"/>
          </a:xfrm>
        </p:grpSpPr>
        <p:sp>
          <p:nvSpPr>
            <p:cNvPr id="60" name="Notched Right Arrow 81"/>
            <p:cNvSpPr/>
            <p:nvPr/>
          </p:nvSpPr>
          <p:spPr>
            <a:xfrm flipH="1" rot="5400000">
              <a:off x="4713120" y="2029680"/>
              <a:ext cx="1662120" cy="265680"/>
            </a:xfrm>
            <a:custGeom>
              <a:avLst/>
              <a:gdLst>
                <a:gd name="textAreaLeft" fmla="*/ 252000 w 1662120"/>
                <a:gd name="textAreaRight" fmla="*/ 1410120 w 166212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24" y="0"/>
                  </a:lnTo>
                  <a:lnTo>
                    <a:pt x="18324" y="0"/>
                  </a:lnTo>
                  <a:lnTo>
                    <a:pt x="21600" y="10800"/>
                  </a:lnTo>
                  <a:lnTo>
                    <a:pt x="18324" y="21600"/>
                  </a:lnTo>
                  <a:lnTo>
                    <a:pt x="18324" y="21600"/>
                  </a:lnTo>
                  <a:lnTo>
                    <a:pt x="0" y="21600"/>
                  </a:lnTo>
                  <a:lnTo>
                    <a:pt x="3276" y="108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576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Group 82"/>
            <p:cNvGrpSpPr/>
            <p:nvPr/>
          </p:nvGrpSpPr>
          <p:grpSpPr>
            <a:xfrm>
              <a:off x="4853160" y="1900080"/>
              <a:ext cx="3652560" cy="799560"/>
              <a:chOff x="4853160" y="1900080"/>
              <a:chExt cx="3652560" cy="799560"/>
            </a:xfrm>
          </p:grpSpPr>
          <p:sp>
            <p:nvSpPr>
              <p:cNvPr id="62" name="Freeform 83"/>
              <p:cNvSpPr/>
              <p:nvPr/>
            </p:nvSpPr>
            <p:spPr>
              <a:xfrm>
                <a:off x="4853160" y="1900080"/>
                <a:ext cx="3652560" cy="655200"/>
              </a:xfrm>
              <a:custGeom>
                <a:avLst/>
                <a:gdLst/>
                <a:ahLst/>
                <a:rect l="l" t="t" r="r" b="b"/>
                <a:pathLst>
                  <a:path w="3855031" h="800099">
                    <a:moveTo>
                      <a:pt x="455897" y="0"/>
                    </a:moveTo>
                    <a:lnTo>
                      <a:pt x="3855031" y="0"/>
                    </a:lnTo>
                    <a:lnTo>
                      <a:pt x="3608347" y="290991"/>
                    </a:lnTo>
                    <a:lnTo>
                      <a:pt x="3855031" y="623454"/>
                    </a:lnTo>
                    <a:lnTo>
                      <a:pt x="1517075" y="623454"/>
                    </a:lnTo>
                    <a:lnTo>
                      <a:pt x="1517075" y="623449"/>
                    </a:lnTo>
                    <a:lnTo>
                      <a:pt x="592284" y="623449"/>
                    </a:lnTo>
                    <a:lnTo>
                      <a:pt x="592284" y="623454"/>
                    </a:lnTo>
                    <a:lnTo>
                      <a:pt x="176649" y="623454"/>
                    </a:lnTo>
                    <a:cubicBezTo>
                      <a:pt x="103480" y="623454"/>
                      <a:pt x="40701" y="667941"/>
                      <a:pt x="13885" y="731342"/>
                    </a:cubicBezTo>
                    <a:lnTo>
                      <a:pt x="3" y="800099"/>
                    </a:lnTo>
                    <a:lnTo>
                      <a:pt x="3" y="800099"/>
                    </a:lnTo>
                    <a:lnTo>
                      <a:pt x="3" y="446808"/>
                    </a:lnTo>
                    <a:lnTo>
                      <a:pt x="4" y="446808"/>
                    </a:lnTo>
                    <a:lnTo>
                      <a:pt x="4" y="176666"/>
                    </a:lnTo>
                    <a:cubicBezTo>
                      <a:pt x="3" y="176660"/>
                      <a:pt x="1" y="176653"/>
                      <a:pt x="0" y="176647"/>
                    </a:cubicBezTo>
                    <a:lnTo>
                      <a:pt x="13882" y="107889"/>
                    </a:lnTo>
                    <a:cubicBezTo>
                      <a:pt x="40698" y="44488"/>
                      <a:pt x="103477" y="1"/>
                      <a:pt x="176646" y="1"/>
                    </a:cubicBezTo>
                    <a:lnTo>
                      <a:pt x="455897" y="1"/>
                    </a:lnTo>
                    <a:lnTo>
                      <a:pt x="455897" y="0"/>
                    </a:lnTo>
                    <a:close/>
                  </a:path>
                </a:pathLst>
              </a:custGeom>
              <a:solidFill>
                <a:srgbClr val="5482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04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84"/>
              <p:cNvSpPr/>
              <p:nvPr/>
            </p:nvSpPr>
            <p:spPr>
              <a:xfrm>
                <a:off x="4853160" y="2410560"/>
                <a:ext cx="560880" cy="289080"/>
              </a:xfrm>
              <a:custGeom>
                <a:avLst/>
                <a:gdLst/>
                <a:ahLst/>
                <a:rect l="l" t="t" r="r" b="b"/>
                <a:pathLst>
                  <a:path w="592282" h="353292">
                    <a:moveTo>
                      <a:pt x="0" y="176645"/>
                    </a:moveTo>
                    <a:lnTo>
                      <a:pt x="0" y="176646"/>
                    </a:lnTo>
                    <a:lnTo>
                      <a:pt x="0" y="176646"/>
                    </a:lnTo>
                    <a:lnTo>
                      <a:pt x="0" y="176645"/>
                    </a:lnTo>
                    <a:close/>
                    <a:moveTo>
                      <a:pt x="176646" y="0"/>
                    </a:moveTo>
                    <a:lnTo>
                      <a:pt x="592282" y="0"/>
                    </a:lnTo>
                    <a:lnTo>
                      <a:pt x="592282" y="353292"/>
                    </a:lnTo>
                    <a:lnTo>
                      <a:pt x="176646" y="353291"/>
                    </a:lnTo>
                    <a:cubicBezTo>
                      <a:pt x="103477" y="353291"/>
                      <a:pt x="40698" y="308805"/>
                      <a:pt x="13882" y="245404"/>
                    </a:cubicBezTo>
                    <a:lnTo>
                      <a:pt x="0" y="176646"/>
                    </a:lnTo>
                    <a:lnTo>
                      <a:pt x="13882" y="107888"/>
                    </a:lnTo>
                    <a:cubicBezTo>
                      <a:pt x="40698" y="44487"/>
                      <a:pt x="103477" y="0"/>
                      <a:pt x="176646" y="0"/>
                    </a:cubicBezTo>
                    <a:close/>
                  </a:path>
                </a:pathLst>
              </a:custGeom>
              <a:solidFill>
                <a:srgbClr val="385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Прямоугольник 36"/>
          <p:cNvSpPr/>
          <p:nvPr/>
        </p:nvSpPr>
        <p:spPr>
          <a:xfrm>
            <a:off x="3003480" y="372888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  <a:ea typeface="Arial"/>
              </a:rPr>
              <a:t>1 октября 2017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7"/>
          <p:cNvSpPr/>
          <p:nvPr/>
        </p:nvSpPr>
        <p:spPr>
          <a:xfrm>
            <a:off x="5076720" y="543564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  <a:ea typeface="Arial"/>
              </a:rPr>
              <a:t>31 июля 2017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8"/>
          <p:cNvSpPr/>
          <p:nvPr/>
        </p:nvSpPr>
        <p:spPr>
          <a:xfrm>
            <a:off x="5203800" y="1976400"/>
            <a:ext cx="30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  <a:ea typeface="Arial"/>
              </a:rPr>
              <a:t>31 июля 2018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stomShape 1"/>
          <p:cNvSpPr/>
          <p:nvPr/>
        </p:nvSpPr>
        <p:spPr>
          <a:xfrm>
            <a:off x="247680" y="181080"/>
            <a:ext cx="9277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535200" y="0"/>
            <a:ext cx="636768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ФЕДЕРАЛЬНЫЙ ЗАКОН ОТ 29.07.2017 N 278-ФЗ "О ВНЕСЕНИИ ИЗМЕНЕНИЙ В ФЕДЕРАЛЬНЫЙ ЗАК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«О ГОСУДАРСТВЕННОМ РЕГУЛИРОВАНИИ ПРОИЗВОДСТВА И ОБОРОТА ЭТИЛОВОГО СПИРТА, АЛКОГОЛЬНОЙ И СПИРТОСОДЕРЖАЩЕЙ ПРОДУКЦИИ И ОБ ОГРАНИЧЕНИИ ПОТРЕБЛЕНИЯ (РАСПИТИЯ) АЛКОГОЛЬНОЙ ПРОДУКЦИИ" И ОТДЕЛЬНЫЕ ЗАКОНОДАТЕЛЬНЫЕ АКТЫ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650880" y="1441440"/>
            <a:ext cx="9023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2.11.1995 № 171-ФЗ «О государственном регулировании производства и оборота этилового спирта, алкогольной и спиртосодержащей продукции и об ограничении потребления (распития) алкогольной продук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19. «Порядок выдачи лиценз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650880" y="3773520"/>
            <a:ext cx="902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20. «Приостановление, возобновление, прекращение действия лицензии и аннулирование лиценз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712800" y="2908440"/>
            <a:ext cx="8907480" cy="1936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712800" y="3102120"/>
            <a:ext cx="8240760" cy="2206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7042320" y="2717640"/>
            <a:ext cx="2577960" cy="1936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3"/>
          <p:cNvSpPr/>
          <p:nvPr/>
        </p:nvSpPr>
        <p:spPr>
          <a:xfrm>
            <a:off x="712800" y="4962600"/>
            <a:ext cx="8907480" cy="3808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4"/>
          <p:cNvSpPr/>
          <p:nvPr/>
        </p:nvSpPr>
        <p:spPr>
          <a:xfrm>
            <a:off x="712800" y="5343480"/>
            <a:ext cx="2097000" cy="1904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650880" y="2416320"/>
            <a:ext cx="902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9. Основанием для отказа в выдаче лицензии на производство и оборот этилового спирта, алкогольной и спиртосодержащей продукции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7) наличие у заявителя на дату поступления в лицензирующий орган заявления о выдаче лицензии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не уплаченного в установленный срок административного штрафа, назначенного за правонарушения, предусмотренные Кодексом Российской Федерации об административных правонарушениях и совершенные в области производства и оборота этилового спирта, алкогольной и спиртосодержащ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50880" y="4275000"/>
            <a:ext cx="902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1. Действие лицензии на производство и оборот этилового спирта, алкогольной и спиртосодержащей продукции приостанавливается решением лицензирующего органа на основании материалов, представленных органами, осуществляющими контроль и надзор за соблюдением настоящего Федерального закона, а также по инициативе самого лицензирующего органа в пределах его компетенции в следующих случа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неуплата лицензиатом в установленный срок административного штрафа, назначенного за правонарушение, предусмотренное Кодексом Российской Федерации об административных правонарушениях, совершенное в области производства и оборота этилового спирта, алкогольной и спиртосодержащ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277-5633-4BEB-9BD3-FF69F54D9A64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7"/>
          <p:cNvSpPr/>
          <p:nvPr/>
        </p:nvSpPr>
        <p:spPr>
          <a:xfrm>
            <a:off x="1058760" y="1230480"/>
            <a:ext cx="846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02.10.2007 № 229-ФЗ «Об исполнительном производст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67. «Временные ограничения на выезд должника из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ustomShape 1"/>
          <p:cNvSpPr/>
          <p:nvPr/>
        </p:nvSpPr>
        <p:spPr>
          <a:xfrm>
            <a:off x="247680" y="181080"/>
            <a:ext cx="9277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3535200" y="0"/>
            <a:ext cx="636768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ФЕДЕРАЛЬНЫЙ ЗАКОН ОТ 26.07.2017 № 190-ФЗ «О ВНЕСЕНИИ ИЗМЕНЕНИЙ В СТАТЬИ 65 И 67 ФЕДЕРАЛЬНОГО ЗАКОНА «ОБ ИСПОЛНИТЕЛЬНОМ 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11"/>
          <p:cNvGrpSpPr/>
          <p:nvPr/>
        </p:nvGrpSpPr>
        <p:grpSpPr>
          <a:xfrm>
            <a:off x="657360" y="2146320"/>
            <a:ext cx="8867520" cy="1798920"/>
            <a:chOff x="657360" y="2146320"/>
            <a:chExt cx="8867520" cy="179892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6685920" y="2840040"/>
              <a:ext cx="28389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Прямоугольник 13"/>
            <p:cNvSpPr/>
            <p:nvPr/>
          </p:nvSpPr>
          <p:spPr>
            <a:xfrm>
              <a:off x="695880" y="3046320"/>
              <a:ext cx="882900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Прямоугольник 14"/>
            <p:cNvSpPr/>
            <p:nvPr/>
          </p:nvSpPr>
          <p:spPr>
            <a:xfrm>
              <a:off x="695880" y="3259080"/>
              <a:ext cx="32889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оугольник 1"/>
            <p:cNvSpPr/>
            <p:nvPr/>
          </p:nvSpPr>
          <p:spPr>
            <a:xfrm>
              <a:off x="657360" y="2146320"/>
              <a:ext cx="8867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4. При вынесении постановления о временном ограничении на выезд должника из Российской Федерации в ходе исполнительного производства по исполнительному документу о взыскании денежных средств судебный пристав-исполнитель структурного подразделения территориального органа Федеральной службы судебных приставов поручает судебному приставу-исполнителю структурного подразделения Федеральной службы судебных приставов снять данное ограничение при наличии информации об уплате задолженности по исполнительному документу в Государственной информационной системе о государственных и муниципальных платежах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Группа 12"/>
          <p:cNvGrpSpPr/>
          <p:nvPr/>
        </p:nvGrpSpPr>
        <p:grpSpPr>
          <a:xfrm>
            <a:off x="657360" y="3787920"/>
            <a:ext cx="8867520" cy="2012040"/>
            <a:chOff x="657360" y="3787920"/>
            <a:chExt cx="8867520" cy="2012040"/>
          </a:xfrm>
        </p:grpSpPr>
        <p:sp>
          <p:nvSpPr>
            <p:cNvPr id="88" name="Прямоугольник 15"/>
            <p:cNvSpPr/>
            <p:nvPr/>
          </p:nvSpPr>
          <p:spPr>
            <a:xfrm>
              <a:off x="8260920" y="3843360"/>
              <a:ext cx="12639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рямоугольник 16"/>
            <p:cNvSpPr/>
            <p:nvPr/>
          </p:nvSpPr>
          <p:spPr>
            <a:xfrm>
              <a:off x="695880" y="4056120"/>
              <a:ext cx="882900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Прямоугольник 17"/>
            <p:cNvSpPr/>
            <p:nvPr/>
          </p:nvSpPr>
          <p:spPr>
            <a:xfrm>
              <a:off x="695880" y="4268880"/>
              <a:ext cx="612144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Прямоугольник 18"/>
            <p:cNvSpPr/>
            <p:nvPr/>
          </p:nvSpPr>
          <p:spPr>
            <a:xfrm>
              <a:off x="8260920" y="4478400"/>
              <a:ext cx="12639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рямоугольник 19"/>
            <p:cNvSpPr/>
            <p:nvPr/>
          </p:nvSpPr>
          <p:spPr>
            <a:xfrm>
              <a:off x="695880" y="4691160"/>
              <a:ext cx="599004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Прямоугольник 2"/>
            <p:cNvSpPr/>
            <p:nvPr/>
          </p:nvSpPr>
          <p:spPr>
            <a:xfrm>
              <a:off x="657360" y="3787920"/>
              <a:ext cx="88675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8. Судебный пристав-исполнитель структурного подразделения Федеральной службы судебных приставов не позднее дня, следующего за днем размещения в Государственной информационной системе о государственных и муниципальных платежах информации об уплате задолженности по исполнительному документу, выносит в форме электронного документа, подписанного усиленной квалифицированной электронной подписью этого судебного пристава-исполнителя, постановление о снятии временного ограничения на выезд должника из Российской Федерации, экземпляр которого незамедлительно направляет судебному приставу-исполнителю, вынесшему постановление о временном ограничении на выезд должника из Российской Федерации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5E90-A6DC-47C8-B4E7-6D68BC2E3486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ustomShape 1"/>
          <p:cNvSpPr/>
          <p:nvPr/>
        </p:nvSpPr>
        <p:spPr>
          <a:xfrm>
            <a:off x="247680" y="181080"/>
            <a:ext cx="9277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535200" y="0"/>
            <a:ext cx="636768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ФЕДЕРАЛЬНЫЙ ЗАКОН ОТ 29.07.2017 № 236-ФЗ «О ВНЕСЕНИИ ИЗМЕНЕНИЙ В ОТДЕЛЬНЫЕ ЗАКОНОДАТЕЛЬНЫЕ АКТЫ РОССИЙСКОЙ ФЕДЕРАЦИИ В СВЯЗИ С СОВЕРШЕНСТВОВАНИЕМ ПОРЯДКА И СРОКОВ НАПРАВЛЕНИЯ ИНФОРМАЦИИ В ГОСУДАРСТВЕННУЮ ИНФОРМАЦИОННУЮ СИСТЕМУ О ГОСУДАРСТВЕННЫХ И МУНИЦИПАЛЬНЫХ ПЛА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843120" y="1290600"/>
            <a:ext cx="89233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7.07.2010 года № 210-ФЗ «Об организации предоставления государственных и муниципальных услуг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21.3 «Государственная информационная система о государственных и муниципальных платежа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7"/>
          <p:cNvGrpSpPr/>
          <p:nvPr/>
        </p:nvGrpSpPr>
        <p:grpSpPr>
          <a:xfrm>
            <a:off x="843120" y="1986120"/>
            <a:ext cx="8923320" cy="1554120"/>
            <a:chOff x="843120" y="1986120"/>
            <a:chExt cx="8923320" cy="1554120"/>
          </a:xfrm>
        </p:grpSpPr>
        <p:sp>
          <p:nvSpPr>
            <p:cNvPr id="99" name="Прямоугольник 13"/>
            <p:cNvSpPr/>
            <p:nvPr/>
          </p:nvSpPr>
          <p:spPr>
            <a:xfrm>
              <a:off x="6075000" y="2568600"/>
              <a:ext cx="369144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Прямоугольник 14"/>
            <p:cNvSpPr/>
            <p:nvPr/>
          </p:nvSpPr>
          <p:spPr>
            <a:xfrm>
              <a:off x="877680" y="2747880"/>
              <a:ext cx="888876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оугольник 15"/>
            <p:cNvSpPr/>
            <p:nvPr/>
          </p:nvSpPr>
          <p:spPr>
            <a:xfrm>
              <a:off x="877680" y="2960640"/>
              <a:ext cx="351756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оугольник 11"/>
            <p:cNvSpPr/>
            <p:nvPr/>
          </p:nvSpPr>
          <p:spPr>
            <a:xfrm>
              <a:off x="843120" y="1986120"/>
              <a:ext cx="8923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1. Государственная информационная система о государственных и муниципальных платежах является информационной системой, предназначенной для размещения и получения информации об уплате физическими и юридическими лицами платежей за оказание государственных и муниципальных услуг, услуг, указанных в части 3 статьи 1 и части 1 статьи 9 настоящего Федерального закона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ых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платежей, являющихся источниками формирования доходов бюджетов бюджетной системы Российской Федерации,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за исключением платежей, являющихся источниками формирования доходов бюджетов бюджетной системы Российской Федерации, перечень которых устанавливается в соответствии с бюджетным законодательством Российской Федерации,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а также иных платежей, в случаях, предусмотренных федеральными законами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Группа 22"/>
          <p:cNvGrpSpPr/>
          <p:nvPr/>
        </p:nvGrpSpPr>
        <p:grpSpPr>
          <a:xfrm>
            <a:off x="843120" y="3376440"/>
            <a:ext cx="8923320" cy="3319560"/>
            <a:chOff x="843120" y="3376440"/>
            <a:chExt cx="8923320" cy="3319560"/>
          </a:xfrm>
        </p:grpSpPr>
        <p:sp>
          <p:nvSpPr>
            <p:cNvPr id="104" name="Прямоугольник 16"/>
            <p:cNvSpPr/>
            <p:nvPr/>
          </p:nvSpPr>
          <p:spPr>
            <a:xfrm>
              <a:off x="6028560" y="4044600"/>
              <a:ext cx="369144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Прямоугольник 17"/>
            <p:cNvSpPr/>
            <p:nvPr/>
          </p:nvSpPr>
          <p:spPr>
            <a:xfrm>
              <a:off x="877680" y="4227480"/>
              <a:ext cx="402840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оугольник 18"/>
            <p:cNvSpPr/>
            <p:nvPr/>
          </p:nvSpPr>
          <p:spPr>
            <a:xfrm>
              <a:off x="2336760" y="4854600"/>
              <a:ext cx="742968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оугольник 19"/>
            <p:cNvSpPr/>
            <p:nvPr/>
          </p:nvSpPr>
          <p:spPr>
            <a:xfrm>
              <a:off x="877680" y="5025960"/>
              <a:ext cx="78552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оугольник 20"/>
            <p:cNvSpPr/>
            <p:nvPr/>
          </p:nvSpPr>
          <p:spPr>
            <a:xfrm>
              <a:off x="877680" y="5540400"/>
              <a:ext cx="8842320" cy="4032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21"/>
            <p:cNvSpPr/>
            <p:nvPr/>
          </p:nvSpPr>
          <p:spPr>
            <a:xfrm>
              <a:off x="877680" y="5931000"/>
              <a:ext cx="277452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Прямоугольник 5"/>
            <p:cNvSpPr/>
            <p:nvPr/>
          </p:nvSpPr>
          <p:spPr>
            <a:xfrm>
              <a:off x="843120" y="3376440"/>
              <a:ext cx="8923320" cy="33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3. Порядок ведения Государственной информационной системы о государственных и муниципальных платежах устанавливает Федеральное казначейство по согласованию с Центральным банком Российской Федерации. Указанным порядком определяются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1) перечень информации, необходимой для уплаты, включая подлежащую уплате сумму, за государственные и муниципальные услуги, услуги, указанные в части 3 статьи 1 и части 1 статьи 9 настоящего Федерального закона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ых платежей, являющихся источниками формирования доходов бюджетов бюджетной системы Российской Федерации,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а также иных платежей, в случаях, предусмотренных федеральными законами, порядок ее получения и предоставления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2) перечень информации об уплате государственных и муниципальных услуг, услуг, указанных в части 3 статьи 1 и части 1 статьи 9 настоящего Федерального закона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ых платежей, являющихся источниками формирования доходов бюджетов бюджетной системы Российской Федерации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, а также иных платежей, в случаях, предусмотренных федеральными законами, порядок ее получения и предоставления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3) порядок доступа к Государственной информационной системе о государственных и муниципальных платежах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4)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порядок фиксации времени доступности Государственной информационной системы о государственных и муниципальных платежах, а также времени поступления в Государственную информационную систему о государственных и муниципальных платежах информации, указанной в пунктах 1 и 2 настоящей части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06E-965E-4C29-82C2-79BB4EFD22F9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ustomShape 1"/>
          <p:cNvSpPr/>
          <p:nvPr/>
        </p:nvSpPr>
        <p:spPr>
          <a:xfrm>
            <a:off x="247680" y="181080"/>
            <a:ext cx="9277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3535200" y="0"/>
            <a:ext cx="636768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ФЕДЕРАЛЬНЫЙ ЗАКОН ОТ 29.07.2017 № 236-ФЗ «О ВНЕСЕНИИ ИЗМЕНЕНИЙ В ОТДЕЛЬНЫЕ ЗАКОНОДАТЕЛЬНЫЕ АКТЫ РОССИЙСКОЙ ФЕДЕРАЦИИ В СВЯЗИ С СОВЕРШЕНСТВОВАНИЕМ ПОРЯДКА И СРОКОВ НАПРАВЛЕНИЯ ИНФОРМАЦИИ В ГОСУДАРСТВЕННУЮ ИНФОРМАЦИОННУЮ СИСТЕМУ О ГОСУДАРСТВЕННЫХ И МУНИЦИПАЛЬНЫХ ПЛА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949320" y="1324080"/>
            <a:ext cx="87408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27.07.2010 года № 210-ФЗ «Об организации предоставления государственных и муниципальных услуг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21.3 «Государственная информационная система о государственных и муниципальных платежа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Группа 2"/>
          <p:cNvGrpSpPr/>
          <p:nvPr/>
        </p:nvGrpSpPr>
        <p:grpSpPr>
          <a:xfrm>
            <a:off x="555480" y="2284560"/>
            <a:ext cx="8969400" cy="2284200"/>
            <a:chOff x="555480" y="2284560"/>
            <a:chExt cx="8969400" cy="2284200"/>
          </a:xfrm>
        </p:grpSpPr>
        <p:sp>
          <p:nvSpPr>
            <p:cNvPr id="116" name="Прямоугольник 11"/>
            <p:cNvSpPr/>
            <p:nvPr/>
          </p:nvSpPr>
          <p:spPr>
            <a:xfrm>
              <a:off x="5423400" y="2330280"/>
              <a:ext cx="402552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Прямоугольник 12"/>
            <p:cNvSpPr/>
            <p:nvPr/>
          </p:nvSpPr>
          <p:spPr>
            <a:xfrm>
              <a:off x="601560" y="2513160"/>
              <a:ext cx="450540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Прямоугольник 13"/>
            <p:cNvSpPr/>
            <p:nvPr/>
          </p:nvSpPr>
          <p:spPr>
            <a:xfrm>
              <a:off x="3898800" y="3054240"/>
              <a:ext cx="5070240" cy="2142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оугольник 14"/>
            <p:cNvSpPr/>
            <p:nvPr/>
          </p:nvSpPr>
          <p:spPr>
            <a:xfrm>
              <a:off x="1655640" y="3245040"/>
              <a:ext cx="779328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оугольник 15"/>
            <p:cNvSpPr/>
            <p:nvPr/>
          </p:nvSpPr>
          <p:spPr>
            <a:xfrm>
              <a:off x="601560" y="3421080"/>
              <a:ext cx="8847000" cy="2124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Прямоугольник 16"/>
            <p:cNvSpPr/>
            <p:nvPr/>
          </p:nvSpPr>
          <p:spPr>
            <a:xfrm>
              <a:off x="601560" y="3594240"/>
              <a:ext cx="7175520" cy="21564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Прямоугольник 6"/>
            <p:cNvSpPr/>
            <p:nvPr/>
          </p:nvSpPr>
          <p:spPr>
            <a:xfrm>
              <a:off x="555480" y="2284560"/>
              <a:ext cx="89694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4. Банк, иная кредитная организация, организация федеральной почтовой связи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рганы, осуществляющие открытие и ведение лицевых счетов в соответствии с бюджетным законодательством Российской Федерации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, в том числе производящие расчеты в электронной форме, а также иные органы или организации, через которые производится уплата денежных средств заявителем за государственные и муниципальные услуги, услуги, указанные в части 3 статьи 1 и части 1 статьи 9 настоящего Федерального закона,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ых платежей, являющихся источниками формирования доходов бюджетов бюджетной системы Российской Федерации,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а также иных платежей, в случаях, предусмотренных федеральными законами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, обязаны незамедлительно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при достаточности денежных средств для исполнения распоряжения о переводе денежных средств не позднее дня приема к исполнению соответствующего распоряжения, а при приеме к исполнению распоряжения о переводе денежных средств после 21 часа по местному времени - не позднее дня, следующего за днем приема к исполнению соответствующего распоряжения, 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направлять информацию об их уплате в Государственную информационную систему о государственных и муниципальных платеж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Группа 3"/>
          <p:cNvGrpSpPr/>
          <p:nvPr/>
        </p:nvGrpSpPr>
        <p:grpSpPr>
          <a:xfrm>
            <a:off x="555480" y="4511520"/>
            <a:ext cx="8969400" cy="1371600"/>
            <a:chOff x="555480" y="4511520"/>
            <a:chExt cx="8969400" cy="1371600"/>
          </a:xfrm>
        </p:grpSpPr>
        <p:sp>
          <p:nvSpPr>
            <p:cNvPr id="124" name="Прямоугольник 17"/>
            <p:cNvSpPr/>
            <p:nvPr/>
          </p:nvSpPr>
          <p:spPr>
            <a:xfrm>
              <a:off x="3783960" y="4539960"/>
              <a:ext cx="22287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оугольник 18"/>
            <p:cNvSpPr/>
            <p:nvPr/>
          </p:nvSpPr>
          <p:spPr>
            <a:xfrm>
              <a:off x="601560" y="4916160"/>
              <a:ext cx="668016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19"/>
            <p:cNvSpPr/>
            <p:nvPr/>
          </p:nvSpPr>
          <p:spPr>
            <a:xfrm>
              <a:off x="8410680" y="4743360"/>
              <a:ext cx="103824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20"/>
            <p:cNvSpPr/>
            <p:nvPr/>
          </p:nvSpPr>
          <p:spPr>
            <a:xfrm>
              <a:off x="3249720" y="5089320"/>
              <a:ext cx="6198840" cy="21420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21"/>
            <p:cNvSpPr/>
            <p:nvPr/>
          </p:nvSpPr>
          <p:spPr>
            <a:xfrm>
              <a:off x="601560" y="5276880"/>
              <a:ext cx="829080" cy="21276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1"/>
            <p:cNvSpPr/>
            <p:nvPr/>
          </p:nvSpPr>
          <p:spPr>
            <a:xfrm>
              <a:off x="555480" y="4511520"/>
              <a:ext cx="8969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5. Государственные и муниципальные учреждения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незамедлительно не позднее дня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осуществления начисления суммы, подлежащей оплате заявителем за предоставляемые услуги, указанные в части 3 статьи 1 и части 1 статьи 9 настоящего Федерального закона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ых платежей, являющихся источниками формирования доходов бюджетов бюджетной системы Российской Федерации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, а также иных платежей, в случаях, предусмотренных федеральными законами, </a:t>
              </a:r>
              <a:r>
                <a:rPr b="1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а при ее начислении после 21 часа по местному времени - не позднее дня, следующего за днем начисления</a:t>
              </a:r>
              <a:r>
                <a:rPr b="0" lang="ru-RU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, обязаны направлять информацию, необходимую для ее уплаты, в Государственную информационную систему о государственных и муниципальных платежах."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EC80-EFFE-430A-BF71-FF25CFCF0958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ustomShape 1"/>
          <p:cNvSpPr/>
          <p:nvPr/>
        </p:nvSpPr>
        <p:spPr>
          <a:xfrm>
            <a:off x="247680" y="181080"/>
            <a:ext cx="92772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3535200" y="0"/>
            <a:ext cx="6367680" cy="1028880"/>
          </a:xfrm>
          <a:prstGeom prst="rect">
            <a:avLst/>
          </a:prstGeom>
          <a:solidFill>
            <a:srgbClr val="7f7f7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PT Serif"/>
              </a:rPr>
              <a:t>ФЕДЕРАЛЬНЫЙ ЗАКОН ОТ 29.07.2017 № 236-ФЗ «О ВНЕСЕНИИ ИЗМЕНЕНИЙ В ОТДЕЛЬНЫЕ ЗАКОНОДАТЕЛЬНЫЕ АКТЫ РОССИЙСКОЙ ФЕДЕРАЦИИ В СВЯЗИ С СОВЕРШЕНСТВОВАНИЕМ ПОРЯДКА И СРОКОВ НАПРАВЛЕНИЯ ИНФОРМАЦИИ В ГОСУДАРСТВЕННУЮ ИНФОРМАЦИОННУЮ СИСТЕМУ О ГОСУДАРСТВЕННЫХ И МУНИЦИПАЛЬНЫХ ПЛА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25480" y="1400040"/>
            <a:ext cx="70488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Кодекс Российской Федерации об административных правонарушени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32.2 «Исполнение постановления о наложении административного штраф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890640" y="3606840"/>
            <a:ext cx="846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Федеральный закон от 02.10.2007 № 229-ФЗ «Об исполнительном производст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  <a:ea typeface="Arial"/>
              </a:rPr>
              <a:t>Статья 6.1 «Банк данных в исполнительном производств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5130720" y="2664000"/>
            <a:ext cx="4488120" cy="368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369720" y="2855880"/>
            <a:ext cx="7291440" cy="3538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3"/>
          <p:cNvSpPr/>
          <p:nvPr/>
        </p:nvSpPr>
        <p:spPr>
          <a:xfrm>
            <a:off x="347760" y="4775040"/>
            <a:ext cx="9217080" cy="2127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347760" y="4956120"/>
            <a:ext cx="2763720" cy="2080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333360" y="5508720"/>
            <a:ext cx="9231480" cy="2127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6"/>
          <p:cNvSpPr/>
          <p:nvPr/>
        </p:nvSpPr>
        <p:spPr>
          <a:xfrm>
            <a:off x="333360" y="5699160"/>
            <a:ext cx="1548000" cy="2127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7"/>
          <p:cNvSpPr/>
          <p:nvPr/>
        </p:nvSpPr>
        <p:spPr>
          <a:xfrm>
            <a:off x="8126280" y="5334120"/>
            <a:ext cx="1438560" cy="2127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333360" y="2233440"/>
            <a:ext cx="9333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8. Банк или иная кредитная организация, организация федеральной почтовой связи, платежный агент, осуществляющий деятельность по приему платежей физических лиц, или банковский платежный агент (субагент), осуществляющий деятельность в соответствии с Федеральным законом "О национальной платежной системе", которым уплачивается сумма административного штрафа,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обязаны направлять информацию об уплате административного штрафа в Государственную информационную систему о государственных и муниципальных платежах в порядке и сроки, предусмотренные Федеральным законом от 27 июля 2010 года № 210-ФЗ «Об организации предоставления государственных и муниципальных услу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333360" y="4361040"/>
            <a:ext cx="9261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5. Со дня возбуждения исполнительного производства информация, необходимая для взыскания задолженности по исполнительному документу, направляется Федеральной службой судебных приставов в Государственную информационную систему о государственных и муниципальных платежах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в порядке и сроки, предусмотренные частью 5 статьи 21.3 Федерального закона от 27 июля 2010 года № 210-ФЗ «Об организации предоставления государственных и муниципальных услуг»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. Банк, иная кредитная организация, организация федеральной почтовой связи, иные органы и организации, через которые производится уплата денежных средств в счет погашения задолженности по исполнительному производству, обязаны направлять информацию об их уплате в Государственную информационную систему о государственных и муниципальных платежах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в порядке и сроки, предусмотренные частью 4 статьи 21.3 Федерального закона от 27 июля 2010 года № 210-ФЗ «Об организации предоставления государственных и муниципальных услуг»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1"/>
          <p:cNvSpPr/>
          <p:nvPr/>
        </p:nvSpPr>
        <p:spPr>
          <a:xfrm>
            <a:off x="8869320" y="6307200"/>
            <a:ext cx="97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E1E-5BE3-4FC1-86F1-FA807EC0D588}" type="slidenum">
              <a:rPr b="0" lang="ru-RU" sz="1800" spc="-1" strike="noStrike">
                <a:solidFill>
                  <a:srgbClr val="afabab"/>
                </a:solidFill>
                <a:latin typeface="Trebuchet MS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e7e6e6"/>
                </a:solidFill>
                <a:latin typeface="Trebuchet MS"/>
                <a:ea typeface="Arial"/>
              </a:rPr>
              <a:t>/</a:t>
            </a:r>
            <a:r>
              <a:rPr b="0" lang="ru-RU" sz="1800" spc="-1" strike="noStrike">
                <a:solidFill>
                  <a:srgbClr val="e7e6e6"/>
                </a:solidFill>
                <a:latin typeface="Trebuchet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4"/>
          <p:cNvSpPr/>
          <p:nvPr/>
        </p:nvSpPr>
        <p:spPr>
          <a:xfrm>
            <a:off x="2619360" y="25765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6:27:21Z</dcterms:created>
  <dc:creator>Mazur Nataliya</dc:creator>
  <dc:description/>
  <dc:language>en-US</dc:language>
  <cp:lastModifiedBy>AlekseevaTYu</cp:lastModifiedBy>
  <cp:lastPrinted>2017-03-27T08:05:42Z</cp:lastPrinted>
  <dcterms:modified xsi:type="dcterms:W3CDTF">2017-08-21T09:49:19Z</dcterms:modified>
  <cp:revision>358</cp:revision>
  <dc:subject/>
  <dc:title>Презентация PowerPoint</dc:title>
</cp:coreProperties>
</file>